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E9E-931B-4658-B0AE-9AFDA2B9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767-89BC-4616-BBE7-C435908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858-A7CD-4ADD-8509-CAFF803F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18-890A-4180-B798-34C19694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7C7-50B3-4CF2-8CEE-6BB5FF8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427-20AE-41E3-800B-99D5B8E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22F-5CF3-4870-B9C5-B96C9096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F60-5D41-48BC-A87B-8418BDE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83E-A83D-40B3-A2ED-1B6BF7D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F0C-CFC9-4E17-BCD7-C5C46E4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D81-5ADD-4343-A375-D4F229A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729-D971-41EA-A736-4D6DDFF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B77-AF63-44F0-BF82-F64CF3FE2E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5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8094600" cy="13777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4"/>
          <a:stretch/>
        </p:blipFill>
        <p:spPr>
          <a:xfrm>
            <a:off x="1212840" y="2286000"/>
            <a:ext cx="725472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433520" y="3270240"/>
            <a:ext cx="4786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2" descr=""/>
          <p:cNvPicPr/>
          <p:nvPr/>
        </p:nvPicPr>
        <p:blipFill>
          <a:blip r:embed="rId2"/>
          <a:stretch/>
        </p:blipFill>
        <p:spPr>
          <a:xfrm>
            <a:off x="1206360" y="4950000"/>
            <a:ext cx="2811600" cy="68256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3"/>
          <a:stretch/>
        </p:blipFill>
        <p:spPr>
          <a:xfrm>
            <a:off x="1206360" y="4071960"/>
            <a:ext cx="7413840" cy="101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1371600" y="105264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5"/>
          <a:stretch/>
        </p:blipFill>
        <p:spPr>
          <a:xfrm>
            <a:off x="1384200" y="5619600"/>
            <a:ext cx="50958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7845480" cy="13777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4"/>
          <a:stretch/>
        </p:blipFill>
        <p:spPr>
          <a:xfrm>
            <a:off x="1285920" y="5907240"/>
            <a:ext cx="2298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5"/>
          <a:stretch/>
        </p:blipFill>
        <p:spPr>
          <a:xfrm>
            <a:off x="1305000" y="2335320"/>
            <a:ext cx="434664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6" descr=""/>
          <p:cNvPicPr/>
          <p:nvPr/>
        </p:nvPicPr>
        <p:blipFill>
          <a:blip r:embed="rId6"/>
          <a:stretch/>
        </p:blipFill>
        <p:spPr>
          <a:xfrm>
            <a:off x="5443560" y="2341440"/>
            <a:ext cx="3608280" cy="1644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7" descr=""/>
          <p:cNvPicPr/>
          <p:nvPr/>
        </p:nvPicPr>
        <p:blipFill>
          <a:blip r:embed="rId7"/>
          <a:stretch/>
        </p:blipFill>
        <p:spPr>
          <a:xfrm>
            <a:off x="5443560" y="4432320"/>
            <a:ext cx="181116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8"/>
          <a:stretch/>
        </p:blipFill>
        <p:spPr>
          <a:xfrm>
            <a:off x="1389240" y="3716280"/>
            <a:ext cx="27860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58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96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80960" y="157320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9040" y="1030320"/>
            <a:ext cx="78516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2160" y="1627200"/>
            <a:ext cx="6321240" cy="549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743040" y="3621240"/>
            <a:ext cx="3865320" cy="8046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9" descr=""/>
          <p:cNvPicPr/>
          <p:nvPr/>
        </p:nvPicPr>
        <p:blipFill>
          <a:blip r:embed="rId6"/>
          <a:stretch/>
        </p:blipFill>
        <p:spPr>
          <a:xfrm>
            <a:off x="6162840" y="1755720"/>
            <a:ext cx="240156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262160" y="2114640"/>
            <a:ext cx="632124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2236680" y="2571840"/>
            <a:ext cx="624852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2236680" y="3035160"/>
            <a:ext cx="315288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28720" y="4425840"/>
            <a:ext cx="38592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1054080" y="5254560"/>
            <a:ext cx="3865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785880" y="1725480"/>
            <a:ext cx="65656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904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927000" y="3780000"/>
            <a:ext cx="5523120" cy="779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1274760" y="2359080"/>
            <a:ext cx="648504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6"/>
          <a:stretch/>
        </p:blipFill>
        <p:spPr>
          <a:xfrm>
            <a:off x="743040" y="2981160"/>
            <a:ext cx="3865320" cy="8845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7"/>
          <a:stretch/>
        </p:blipFill>
        <p:spPr>
          <a:xfrm>
            <a:off x="1195560" y="4621320"/>
            <a:ext cx="385740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9692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80960" y="1719360"/>
            <a:ext cx="99396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9" descr=""/>
          <p:cNvPicPr/>
          <p:nvPr/>
        </p:nvPicPr>
        <p:blipFill>
          <a:blip r:embed="rId4"/>
          <a:stretch/>
        </p:blipFill>
        <p:spPr>
          <a:xfrm>
            <a:off x="6162840" y="1755720"/>
            <a:ext cx="2395440" cy="8542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243080" y="1785960"/>
            <a:ext cx="64864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238400" y="2371680"/>
            <a:ext cx="649116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2335320" y="2859120"/>
            <a:ext cx="64069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2322360" y="3328920"/>
            <a:ext cx="641376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901800" y="4029120"/>
            <a:ext cx="3511440" cy="804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10"/>
          <a:stretch/>
        </p:blipFill>
        <p:spPr>
          <a:xfrm>
            <a:off x="901800" y="4876920"/>
            <a:ext cx="3859200" cy="8175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11"/>
          <a:stretch/>
        </p:blipFill>
        <p:spPr>
          <a:xfrm>
            <a:off x="1920960" y="5694480"/>
            <a:ext cx="38638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2"/>
          <a:stretch/>
        </p:blipFill>
        <p:spPr>
          <a:xfrm>
            <a:off x="469800" y="1908000"/>
            <a:ext cx="6255000" cy="101124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23840"/>
            <a:ext cx="8137440" cy="1013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1" descr=""/>
          <p:cNvPicPr/>
          <p:nvPr/>
        </p:nvPicPr>
        <p:blipFill>
          <a:blip r:embed="rId4"/>
          <a:stretch/>
        </p:blipFill>
        <p:spPr>
          <a:xfrm>
            <a:off x="6881760" y="2120760"/>
            <a:ext cx="166536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5"/>
          <a:stretch/>
        </p:blipFill>
        <p:spPr>
          <a:xfrm>
            <a:off x="1182600" y="5499000"/>
            <a:ext cx="481644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6"/>
          <a:stretch/>
        </p:blipFill>
        <p:spPr>
          <a:xfrm>
            <a:off x="1219320" y="5900760"/>
            <a:ext cx="748656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7"/>
          <a:stretch/>
        </p:blipFill>
        <p:spPr>
          <a:xfrm>
            <a:off x="1403280" y="2828880"/>
            <a:ext cx="3589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2"/>
          <a:stretch/>
        </p:blipFill>
        <p:spPr>
          <a:xfrm>
            <a:off x="695160" y="987480"/>
            <a:ext cx="7845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3"/>
          <a:stretch/>
        </p:blipFill>
        <p:spPr>
          <a:xfrm>
            <a:off x="798480" y="2444760"/>
            <a:ext cx="4011480" cy="5842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2" descr=""/>
          <p:cNvPicPr/>
          <p:nvPr/>
        </p:nvPicPr>
        <p:blipFill>
          <a:blip r:embed="rId4"/>
          <a:stretch/>
        </p:blipFill>
        <p:spPr>
          <a:xfrm>
            <a:off x="4767120" y="2577960"/>
            <a:ext cx="3780000" cy="11224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5"/>
          <a:stretch/>
        </p:blipFill>
        <p:spPr>
          <a:xfrm>
            <a:off x="5864400" y="4194000"/>
            <a:ext cx="291456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6"/>
          <a:stretch/>
        </p:blipFill>
        <p:spPr>
          <a:xfrm>
            <a:off x="1255680" y="3718080"/>
            <a:ext cx="645624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7"/>
          <a:stretch/>
        </p:blipFill>
        <p:spPr>
          <a:xfrm>
            <a:off x="1195560" y="2438280"/>
            <a:ext cx="3462120" cy="12556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8"/>
          <a:stretch/>
        </p:blipFill>
        <p:spPr>
          <a:xfrm>
            <a:off x="1547640" y="4175280"/>
            <a:ext cx="641376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9"/>
          <a:stretch/>
        </p:blipFill>
        <p:spPr>
          <a:xfrm>
            <a:off x="1542960" y="4621320"/>
            <a:ext cx="6405480" cy="4633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10"/>
          <a:stretch/>
        </p:blipFill>
        <p:spPr>
          <a:xfrm>
            <a:off x="1249200" y="5138640"/>
            <a:ext cx="6456600" cy="5130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11"/>
          <a:stretch/>
        </p:blipFill>
        <p:spPr>
          <a:xfrm>
            <a:off x="5546880" y="5389560"/>
            <a:ext cx="3030480" cy="803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12"/>
          <a:stretch/>
        </p:blipFill>
        <p:spPr>
          <a:xfrm>
            <a:off x="1547640" y="5614920"/>
            <a:ext cx="640728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13"/>
          <a:stretch/>
        </p:blipFill>
        <p:spPr>
          <a:xfrm>
            <a:off x="1554120" y="6066000"/>
            <a:ext cx="6413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2" descr=""/>
          <p:cNvPicPr/>
          <p:nvPr/>
        </p:nvPicPr>
        <p:blipFill>
          <a:blip r:embed="rId2"/>
          <a:stretch/>
        </p:blipFill>
        <p:spPr>
          <a:xfrm>
            <a:off x="1352520" y="1182600"/>
            <a:ext cx="3828960" cy="116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4152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9:09Z</dcterms:modified>
  <cp:revision>20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